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C2F-88C8-4C72-BA28-CE0B1FB9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381-9553-4900-903C-6C017BC0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BFD-ABF9-442A-B39F-21E00D23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678-8BE5-473F-BE54-66D261CC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B05-139B-4164-9F90-DC825D81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4C2-68E7-4583-8807-9C678F8B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41F-7299-44D6-98BD-4AD47CE6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7F4-AD38-4793-8ED2-9225B971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D3E-4ABE-4B23-9531-68D5315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C93-12C5-4A9D-9742-B6B0049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99A-2E5D-44DF-B185-B9DC988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F00-2419-485E-BBB7-278F967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9714-CF17-4FF4-AACF-136DD0D7B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0960" y="3028680"/>
            <a:ext cx="8433000" cy="14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devices are they best for our school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566960"/>
            <a:ext cx="661032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halil Morris,Sierra Price, and Monica 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959200" cy="275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09960" cy="269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1520" y="5181480"/>
            <a:ext cx="325116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07240" y="5181480"/>
            <a:ext cx="34542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LG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85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8.9 inch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32 gb of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2 camer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5 megapixels on the back 2 megapixels on the fro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iFi capabil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83360" y="1833480"/>
            <a:ext cx="4843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P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rices around $599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Not much is known about this product because it is not yet rel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83360" y="1422360"/>
            <a:ext cx="45306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blet PC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Tool for students to practice writ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Internet access availabl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3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Easier for students to learn on their ow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Lightweigh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67200" y="1828800"/>
            <a:ext cx="5208840" cy="551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51354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c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6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Mobile workpla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No need for over the shoulder hel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83360" y="1930320"/>
            <a:ext cx="481644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ndroid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Price $235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Flash video player capabil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Allows user to buy whatever app they chose, now matter who makes i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Usb port compati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75040" y="1747800"/>
            <a:ext cx="52675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berryPlay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Little under $5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laybook storage ranges from 16GB to 64GB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lackberry Cell phone connection is required for cellular u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79960" y="1930320"/>
            <a:ext cx="4957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ny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Price ranges around $25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Qriocity media platform allows players to add music and med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Runs on Andriod 3.0 technolog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To have features that including T.V. u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64240" y="1741320"/>
            <a:ext cx="5330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er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$399-$69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.2Ghz Camera pix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Wifi capabilit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15mm thick Fr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ocking soul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3G speed fun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eighs under 2.2 pou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etachable keyboard from doc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MD silicon processo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65560" y="1828800"/>
            <a:ext cx="5954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sus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Web cam Fun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6GB and 32GB mod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.3 rear and facing camer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4-6 hour battery lif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1024 by 6000 rosolu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84880" y="1933560"/>
            <a:ext cx="4432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amsung Galaxy Tabl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Ranges around $249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An extra spacious Android ph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Digital photo fr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7 inch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Front and rear facing came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Can be charged by laptops U.S.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625760"/>
            <a:ext cx="5133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